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2D6B-D06C-4D0D-AAB2-75B34ECB3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788E-8FDD-41DD-9783-AE13496F8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7D3F-320F-4CA1-B9A0-920C480F6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6B36-3241-4C4D-9EB0-4BAC68DF0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6CD3-D282-48F9-A270-83A8BF1E20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4621-D307-4A18-9C69-FA266DD59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5063-A602-4ACB-8327-ACB1E1E95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3FDB-6A4A-49BA-9804-595E4B5C0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5740-B415-437B-9ADF-21E6B70078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3443-EE1A-4D3D-BEBF-1ED8D37D61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A596-34DF-4B5D-9B43-F454D2C8C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41E3-9E24-4B33-B0CF-5D2AF47E8A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0C9C-3FFE-45FD-80F2-8B0275359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9551-345C-4108-8541-D91309559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C9FC-6745-44E0-86E6-7B0EABF1D9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772B-74A7-4BBE-9981-795AC79DC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FF50-57D7-4D61-A50A-E71F1FDD4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5172-F0B4-460C-8040-1E39EA90C2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9DDE-2647-451F-8230-6B0F543CD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26C6-0B1D-4C24-90AB-F45255F1E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283C-A0A8-43D0-A563-267BEE6BD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C157-B62F-431A-86F4-DDE18B1664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56FC-C22C-48DD-8B6A-63A8A0FE48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EE03-2052-4DAD-9F65-D07C8364C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D534-8DF2-4CF4-8786-B1F2C2126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8C2E-C8B7-478F-99C8-BA88C5991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F72-43A4-49C2-9F20-CF2894E9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133-1505-46AD-9C93-8AA444DB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65C-255F-4894-8D56-0B5B1272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11F-AE69-43A1-A40A-43C7691F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C82-6DDA-43BD-A345-8134CA6B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0F1-1F07-42EB-9453-210BF8AC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8D8-E47C-47D1-BB85-08ED9D34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C40-FFDF-484A-A555-4DB338FE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317-2519-47FE-84D4-D7BA5CBA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07C-FA1B-4911-93F6-366DF205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51B-22AB-4106-9E4A-4E6BA88D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10F-C2D4-4187-A8A0-5977F7E3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0CF6-362E-477D-A299-1289DB9A3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.foto.radikal.ru/0703/4c/62848a88ea59.png" TargetMode="External"/><Relationship Id="rId2" Type="http://schemas.openxmlformats.org/officeDocument/2006/relationships/hyperlink" Target="http://s60.radikal.ru/i167/0905/df/b0f13a866051.png" TargetMode="External"/><Relationship Id="rId3" Type="http://schemas.openxmlformats.org/officeDocument/2006/relationships/hyperlink" Target="http://s43.radikal.ru/i100/1001/20/5b7dede1e7dc.png" TargetMode="External"/><Relationship Id="rId4" Type="http://schemas.openxmlformats.org/officeDocument/2006/relationships/hyperlink" Target="http://s59.radikal.ru/i165/1010/56/331c0aa3caaf.png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пустыня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>
            <a:hlinkClick r:id="" action="ppaction://hlinkshowjump?jump=nextslide"/>
          </p:cNvPr>
          <p:cNvSpPr/>
          <p:nvPr/>
        </p:nvSpPr>
        <p:spPr>
          <a:xfrm>
            <a:off x="8244000" y="5805360"/>
            <a:ext cx="576000" cy="792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92360"/>
              <a:gd name="textAreaBottom" fmla="*/ 755280 h 792360"/>
            </a:gdLst>
            <a:ahLst/>
            <a:rect l="textAreaLeft" t="textAreaTop" r="textAreaRight" b="textAreaBottom"/>
            <a:pathLst>
              <a:path w="21600" h="29708">
                <a:moveTo>
                  <a:pt x="0" y="0"/>
                </a:moveTo>
                <a:lnTo>
                  <a:pt x="21600" y="0"/>
                </a:lnTo>
                <a:lnTo>
                  <a:pt x="21600" y="29708"/>
                </a:lnTo>
                <a:lnTo>
                  <a:pt x="0" y="29708"/>
                </a:lnTo>
                <a:close/>
              </a:path>
              <a:path fill="lightenLess" w="21600" h="29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8">
                <a:moveTo>
                  <a:pt x="21600" y="0"/>
                </a:moveTo>
                <a:lnTo>
                  <a:pt x="21600" y="29708"/>
                </a:lnTo>
                <a:lnTo>
                  <a:pt x="20200" y="28308"/>
                </a:lnTo>
                <a:lnTo>
                  <a:pt x="20200" y="1400"/>
                </a:lnTo>
                <a:close/>
              </a:path>
              <a:path fill="darkenLess" w="21600" h="29708">
                <a:moveTo>
                  <a:pt x="21600" y="29708"/>
                </a:moveTo>
                <a:lnTo>
                  <a:pt x="0" y="29708"/>
                </a:lnTo>
                <a:lnTo>
                  <a:pt x="1400" y="28308"/>
                </a:lnTo>
                <a:lnTo>
                  <a:pt x="20200" y="28308"/>
                </a:lnTo>
                <a:close/>
              </a:path>
              <a:path fill="lighten" w="21600" h="29708">
                <a:moveTo>
                  <a:pt x="0" y="29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8"/>
                </a:lnTo>
                <a:close/>
              </a:path>
              <a:path fill="darken" w="21600" h="29708">
                <a:moveTo>
                  <a:pt x="3794" y="7848"/>
                </a:moveTo>
                <a:lnTo>
                  <a:pt x="17806" y="14854"/>
                </a:lnTo>
                <a:lnTo>
                  <a:pt x="3794" y="21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>
            <a:hlinkClick r:id="" action="ppaction://hlinkshowjump?jump=lastslide"/>
          </p:cNvPr>
          <p:cNvSpPr/>
          <p:nvPr/>
        </p:nvSpPr>
        <p:spPr>
          <a:xfrm>
            <a:off x="6804000" y="595008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156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1236" h="21600">
                <a:moveTo>
                  <a:pt x="16723" y="14281"/>
                </a:moveTo>
                <a:lnTo>
                  <a:pt x="16723" y="12323"/>
                </a:lnTo>
                <a:cubicBezTo>
                  <a:pt x="16723" y="11496"/>
                  <a:pt x="17054" y="10800"/>
                  <a:pt x="17655" y="10800"/>
                </a:cubicBezTo>
                <a:cubicBezTo>
                  <a:pt x="18786" y="10800"/>
                  <a:pt x="19683" y="9434"/>
                  <a:pt x="19683" y="7849"/>
                </a:cubicBezTo>
                <a:cubicBezTo>
                  <a:pt x="19683" y="5534"/>
                  <a:pt x="17829" y="3794"/>
                  <a:pt x="15618" y="3794"/>
                </a:cubicBezTo>
                <a:cubicBezTo>
                  <a:pt x="13407" y="3794"/>
                  <a:pt x="11736" y="5534"/>
                  <a:pt x="11736" y="7849"/>
                </a:cubicBezTo>
                <a:lnTo>
                  <a:pt x="13590" y="7849"/>
                </a:lnTo>
                <a:cubicBezTo>
                  <a:pt x="13590" y="6709"/>
                  <a:pt x="14513" y="5821"/>
                  <a:pt x="15618" y="5821"/>
                </a:cubicBezTo>
                <a:cubicBezTo>
                  <a:pt x="16723" y="5821"/>
                  <a:pt x="17655" y="6709"/>
                  <a:pt x="17655" y="7849"/>
                </a:cubicBezTo>
                <a:cubicBezTo>
                  <a:pt x="17655" y="8589"/>
                  <a:pt x="17185" y="9320"/>
                  <a:pt x="16723" y="9320"/>
                </a:cubicBezTo>
                <a:cubicBezTo>
                  <a:pt x="15618" y="9320"/>
                  <a:pt x="14513" y="10800"/>
                  <a:pt x="14513" y="12323"/>
                </a:cubicBezTo>
                <a:lnTo>
                  <a:pt x="1451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284720" y="333360"/>
            <a:ext cx="4170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гра – тренаж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971640" y="155736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Умникам и умница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0" y="551664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Клено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У СОШ №152 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28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8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8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8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9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824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6" dur="4745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5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6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8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9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0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31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31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1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1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9" dur="indefinite" restart="never" nodeType="tmRoot">
          <p:childTnLst>
            <p:seq>
              <p:cTn id="9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92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8" dur="4745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4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8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0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1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99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32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3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33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34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34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4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0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0" dur="474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7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9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2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3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5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6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59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6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6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6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7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7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3" dur="indefinite" restart="never" nodeType="tmRoot">
          <p:childTnLst>
            <p:seq>
              <p:cTn id="112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13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2" dur="4745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9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5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2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3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4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5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8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8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38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9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9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9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40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5" dur="indefinite" restart="never" nodeType="tmRoot">
          <p:childTnLst>
            <p:seq>
              <p:cTn id="12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0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1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2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54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5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77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8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0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1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324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4745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13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1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1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42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2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2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33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6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8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9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40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1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12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4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4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44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44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45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5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9" dur="indefinite" restart="never" nodeType="tmRoot">
          <p:childTnLst>
            <p:seq>
              <p:cTn id="1430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431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43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4745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440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3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4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5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6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6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7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8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1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1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509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3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6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46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47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47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7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8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1" dur="indefinite" restart="never" nodeType="tmRoot">
          <p:childTnLst>
            <p:seq>
              <p:cTn id="153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1538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0" dur="4745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542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5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7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0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8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9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2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3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4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5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6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9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49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9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0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0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0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3" dur="indefinite" restart="never" nodeType="tmRoot">
          <p:childTnLst>
            <p:seq>
              <p:cTn id="163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8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39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40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3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2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6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7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8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9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732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4" dur="4745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21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2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2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2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3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3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5" dur="indefinite" restart="never" nodeType="tmRoot">
          <p:childTnLst>
            <p:seq>
              <p:cTn id="1736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742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4" dur="4745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746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9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0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1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4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6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76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2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73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4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6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7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0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7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7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7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74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48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5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55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55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55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6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7" dur="indefinite" restart="never" nodeType="tmRoot">
          <p:childTnLst>
            <p:seq>
              <p:cTn id="183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83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844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6" dur="4745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848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1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2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53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87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4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5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9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9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0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1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2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75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57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8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8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8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8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9" dur="indefinite" restart="never" nodeType="tmRoot">
          <p:childTnLst>
            <p:seq>
              <p:cTn id="1940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5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46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7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9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8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0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1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0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3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14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15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38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0" dur="4745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0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0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0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1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1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1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1" dur="indefinite" restart="never" nodeType="tmRoot">
          <p:childTnLst>
            <p:seq>
              <p:cTn id="204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04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048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0" dur="47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205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5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56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7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0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4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075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8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9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0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3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098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2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3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6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0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2121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4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25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6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9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9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63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3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63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4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4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3" dur="indefinite" restart="never" nodeType="tmRoot">
          <p:childTnLst>
            <p:seq>
              <p:cTn id="214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145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2150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2" dur="4745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7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58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9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2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17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0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81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2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5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9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200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3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4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05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2223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6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27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8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5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5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6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6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6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7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5" dur="indefinite" restart="never" nodeType="tmRoot">
          <p:childTnLst>
            <p:seq>
              <p:cTn id="224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252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4" dur="4745" fill="hold"/>
                                        <p:tgtEl>
                                          <p:spTgt spid="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2256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9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60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61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4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8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2279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2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3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4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1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230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5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6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7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0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4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2325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8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29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0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3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83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68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68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69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9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69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7" dur="indefinite" restart="never" nodeType="tmRoot">
          <p:childTnLst>
            <p:seq>
              <p:cTn id="2348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2349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2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53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54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7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1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2372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5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76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7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0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4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239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8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9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0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3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241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1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22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23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6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0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2441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446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8" dur="4745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тернет -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.foto.radikal.ru/0703/4c/62848a88ea5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ерепах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60.radikal.ru/i167/0905/df/b0f13a86605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ыш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43.radikal.ru/i100/1001/20/5b7dede1e7dc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раф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59.radikal.ru/i165/1010/56/331c0aa3caaf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р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s59.radikal.ru/i166/0903/59/7431a707a57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рблюд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http://www.elephant.ru/images/toys/190/50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устын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http://www.pcservicespb.ru/wallpaper/wallpaper/pustosh/1280/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пуга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003.radikal.ru/i201/1010/90/a084e16c5d9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нвер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11.radikal.ru/i183/0908/61/ef01b4e7d54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">
            <a:hlinkClick r:id="" action="ppaction://hlinkshowjump?jump=firstslide"/>
          </p:cNvPr>
          <p:cNvSpPr/>
          <p:nvPr/>
        </p:nvSpPr>
        <p:spPr>
          <a:xfrm>
            <a:off x="7740720" y="5950080"/>
            <a:ext cx="934920" cy="71892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86" h="21600">
                <a:moveTo>
                  <a:pt x="0" y="0"/>
                </a:moveTo>
                <a:lnTo>
                  <a:pt x="28086" y="0"/>
                </a:lnTo>
                <a:lnTo>
                  <a:pt x="28086" y="21600"/>
                </a:lnTo>
                <a:lnTo>
                  <a:pt x="0" y="21600"/>
                </a:lnTo>
                <a:close/>
              </a:path>
              <a:path fill="lightenLess" w="28086" h="21600">
                <a:moveTo>
                  <a:pt x="0" y="0"/>
                </a:moveTo>
                <a:lnTo>
                  <a:pt x="28086" y="0"/>
                </a:lnTo>
                <a:lnTo>
                  <a:pt x="26686" y="1400"/>
                </a:lnTo>
                <a:lnTo>
                  <a:pt x="1400" y="1400"/>
                </a:lnTo>
                <a:close/>
              </a:path>
              <a:path fill="darken" w="28086" h="21600">
                <a:moveTo>
                  <a:pt x="28086" y="0"/>
                </a:moveTo>
                <a:lnTo>
                  <a:pt x="28086" y="21600"/>
                </a:lnTo>
                <a:lnTo>
                  <a:pt x="26686" y="20200"/>
                </a:lnTo>
                <a:lnTo>
                  <a:pt x="26686" y="1400"/>
                </a:lnTo>
                <a:close/>
              </a:path>
              <a:path fill="darkenLess" w="28086" h="21600">
                <a:moveTo>
                  <a:pt x="28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6" y="20200"/>
                </a:lnTo>
                <a:close/>
              </a:path>
              <a:path fill="lighten" w="28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6" h="21600">
                <a:moveTo>
                  <a:pt x="14043" y="3837"/>
                </a:moveTo>
                <a:lnTo>
                  <a:pt x="16620" y="6448"/>
                </a:ln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lnTo>
                  <a:pt x="21006" y="10800"/>
                </a:lnTo>
                <a:lnTo>
                  <a:pt x="19353" y="10800"/>
                </a:lnTo>
                <a:lnTo>
                  <a:pt x="19353" y="17989"/>
                </a:lnTo>
                <a:lnTo>
                  <a:pt x="8734" y="17989"/>
                </a:lnTo>
                <a:lnTo>
                  <a:pt x="8734" y="10800"/>
                </a:lnTo>
                <a:lnTo>
                  <a:pt x="7080" y="10800"/>
                </a:lnTo>
                <a:close/>
              </a:path>
              <a:path fill="darkenLess" w="28086" h="21600">
                <a:moveTo>
                  <a:pt x="16620" y="6448"/>
                </a:move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close/>
              </a:path>
              <a:path fill="darkenLess" w="28086" h="21600">
                <a:moveTo>
                  <a:pt x="13121" y="14299"/>
                </a:moveTo>
                <a:lnTo>
                  <a:pt x="14966" y="14299"/>
                </a:lnTo>
                <a:lnTo>
                  <a:pt x="14966" y="17989"/>
                </a:lnTo>
                <a:lnTo>
                  <a:pt x="19353" y="17989"/>
                </a:lnTo>
                <a:lnTo>
                  <a:pt x="19353" y="10800"/>
                </a:lnTo>
                <a:lnTo>
                  <a:pt x="8734" y="10800"/>
                </a:lnTo>
                <a:lnTo>
                  <a:pt x="8734" y="17989"/>
                </a:lnTo>
                <a:lnTo>
                  <a:pt x="131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89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9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9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9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0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10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74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1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2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12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2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3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1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7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4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4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15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5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5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31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474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9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2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7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7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17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17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18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8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41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47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7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8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1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4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9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9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0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0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0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1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51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474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6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0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2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3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2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22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2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3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3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23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9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0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2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3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9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71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474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51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25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5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5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6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6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722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4" dur="4745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0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1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3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4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6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0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0:05:02Z</dcterms:created>
  <dc:creator>user</dc:creator>
  <dc:description/>
  <dc:language>en-US</dc:language>
  <cp:lastModifiedBy>Юрий</cp:lastModifiedBy>
  <dcterms:modified xsi:type="dcterms:W3CDTF">2011-04-02T08:13:59Z</dcterms:modified>
  <cp:revision>64</cp:revision>
  <dc:subject/>
  <dc:title>Слайд 1</dc:title>
</cp:coreProperties>
</file>